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CB6-6A5D-4D8C-852A-3FDFCD24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55A-949C-414B-821F-E9BC3D2B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0A2-6B39-43DB-86DE-EBE9B17D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251-701F-45E6-9AF3-E907AA72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C7A0-7974-4459-BFF7-0F08D016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8C27-7DCA-469F-AD4E-2D19CDAD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1AB3-EDE9-40F8-B093-6EA951AA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99B5-2814-4291-950D-BEACCC6D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222E-1AC1-4F6F-84F4-045FC8C2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067A-4E09-46EF-95BB-22376B25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30ED-26D0-4DCD-8DFF-81324213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DA1-B629-412E-8114-3D7DB831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47F8-74A0-474A-849D-DF5273D1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33B9-8394-4453-8E79-39917EB2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5B82-E1EF-4DDE-B7C9-6BC42FD4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4E88-B2A6-4AE6-AAFC-63E312A5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A850-2FC9-4F22-A609-DA1210B5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A17-5794-4642-A420-98A272F3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638-C714-4DAB-ADD1-40B5AFAE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14E-DB83-4BB8-BE84-18E1F30F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131-BB83-435C-B219-5A53D7B4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8EA-1D1F-4D85-A1F5-E10C77D4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9E5-56CC-44F5-8ECF-A18D4BD6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5DA-1CC9-4EA9-A7B7-FA5DEA8A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AEB1-1B6F-4287-BCD5-DCB9C3F5F3D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4CF0-83D8-4219-8B09-76528353BFD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s.org/wnet/nature/reptiles/images/wallpaper/snakes_large.jpg&amp;imgrefurl=http://www.pbs.org/wnet/nature/reptiles/snakes.html&amp;h=768&amp;w=1024&amp;sz=303&amp;hl=en&amp;start=7&amp;tbnid=ArsFc15XYdc5SM:&amp;tbnh=113&amp;tbnw=150&amp;prev=/images%3Fq%3Dsnake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oopit.com/albums/Australian-snakes/GreenPythonSnake.jpg&amp;imgrefurl=http://woopitworldwide.blogspot.com/&amp;h=550&amp;w=550&amp;sz=549&amp;hl=en&amp;start=56&amp;tbnid=CunGpCmvxU4hrM:&amp;tbnh=133&amp;tbnw=133&amp;prev=/images%3Fq%3Dsnakes%26start%3D40%26gbv%3D2%26ndsp%3D20%26hl%3Den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news.nationalgeographic.com/news/2006/08/images/060815-snake-stars_big.jpg&amp;imgrefurl=http://danriggs.blogspot.com/2006_08_01_archive.html&amp;h=309&amp;w=461&amp;sz=51&amp;hl=en&amp;start=86&amp;tbnid=RbBLEGe7YRcJDM:&amp;tbnh=86&amp;tbnw=128&amp;prev=/images%3Fq%3Dsnakes%26start%3D80%26gbv%3D2%26ndsp%3D20%26hl%3Den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nak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Ian Schulthe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5105520"/>
            <a:ext cx="175248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o you like snakes? I do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" descr="timber rattlesnake"/>
          <p:cNvPicPr/>
          <p:nvPr/>
        </p:nvPicPr>
        <p:blipFill>
          <a:blip r:embed="rId1"/>
          <a:stretch/>
        </p:blipFill>
        <p:spPr>
          <a:xfrm>
            <a:off x="2209680" y="2666880"/>
            <a:ext cx="5029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nakes lay their  eggs on lan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hey don’t you will never find the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 will never be foun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4114800"/>
            <a:ext cx="21337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nak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n hurt you ba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4998960"/>
            <a:ext cx="24386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y  can grow 36 fee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hey grow too big they will  di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648320" y="5122800"/>
            <a:ext cx="2286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re are 2,800  different kind of snake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 you get bit you will be hu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d  you know they can live in cold places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3124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9:31:08Z</dcterms:modified>
  <cp:revision>3</cp:revision>
  <dc:subject/>
  <dc:title>Animal Name</dc:title>
</cp:coreProperties>
</file>